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E9E0-7794-430E-B3E7-013E2D7D3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1F06-2647-4681-AA24-6104A473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003B-BEF2-46E1-A415-B29DA9ABC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7E25-4E61-4E7B-95F5-09962CE0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5CD6-BEB6-4A59-9E66-1554D14F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D525-105C-4D19-81E7-111CDCFB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C003-E3E9-43CF-BEAB-56A8F2A8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506E-D08E-4BB3-9981-C65944C8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A06C-8BA0-4823-9B81-E6BCDDD6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96B6-090A-4CA4-8398-1B0B1676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39F2-8901-4C11-8C17-B2810A80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1CA2-3E52-4193-9680-CB308FE1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CA15-0B96-46E2-96B8-A78C9501B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izii şi bazele sunt substanţe compuse anorganice sau organice implicate în multe procese naturale sau în reacţiile aplicate în laboratoarele de chimie şi în industria chimic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dicatorii acido-bazici sunt substanţe organi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ra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e îşi schimbă structura şi, în consecinţă, culoarea, în funcţie de caracterul acid sau b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c al soluţ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oluţia apoasă diluată de acid clorhidric, concentraţia ionilor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mare, pentru că, practic, toate moleculele de acid clorhidric au ionizat la dizolvare. Acidul clorhidric este un acid tare. În aceste condiţii, mai multe molecule de turnesol şi-au schimbat structura şi culoarea roşie este mai intensă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şi alte teorii în chimie care definesc noţiunile de acid şi baz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ul 1880, Svante Arrhenius  a definit acizii ca substanţe compuse care, în soluţie apoasă, formează ioni hidrataţi de 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rogen (H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(aq)) şi bazele ca substanţe compuse care eliberează în soluţie ioni metalici (Me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n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şi ioni hidroxid (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 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bstanţe ca HCI,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,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OH sunt acizi Arrhenius, iar substanţe ca NaOH, Ca(OH)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KOH sunt baze Arrhen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029040" cy="3029040"/>
          </a:xfrm>
          <a:prstGeom prst="rect">
            <a:avLst/>
          </a:prstGeom>
          <a:ln w="0">
            <a:noFill/>
          </a:ln>
        </p:spPr>
      </p:pic>
    </p:spTree>
  </p:cSld>
  <p:transition advTm="4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8"/>
          <p:cNvSpPr/>
          <p:nvPr/>
        </p:nvSpPr>
        <p:spPr>
          <a:xfrm>
            <a:off x="533520" y="1066680"/>
            <a:ext cx="784836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licaț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. Compoziţia  procentuală de masă a unui oxoacid cu M=98 este:  2,04% H, 32,653% S, 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306%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abiliţi formula moleculară a oxoacidul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ecuaţiile reacţiilor de ionizare ce au loc la dizolvarea oxoacidului în ap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reciaţi tăria oxoacidului, ştiind că are constantele de aciditate :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,2*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2. Metilamina (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este o bază slabă. În soluţia apoasă de metilamină,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ai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3. Acidul iodhidric  (HI) este un acid foarte tare. În soluţia apoasă de acid iodhidric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ii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concentraţii egale cu concentraţia iniţială a acid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ionii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1596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CIZI ŞI BA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nualul de Chimie,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Elena Alexandrescu, Viorica Zaharia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629080" y="2781360"/>
            <a:ext cx="3886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Sesiunea iunie - iuli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5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3s12</cp:lastModifiedBy>
  <dcterms:modified xsi:type="dcterms:W3CDTF">2012-06-18T11:18:24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